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EricClapton_YouLookWonderfulTonight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1D3-84F9-49F8-A51C-347262FA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4D6-4BA1-4E0B-84AD-C305631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640-9769-4526-9038-BE8068C7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ACB-44DA-4DC7-A0A3-251F1560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6F8-CBE9-4904-B508-A376986B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8BB-F868-4EE7-9598-67B68EB8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B54-6ABA-4E34-AB5C-C194082A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F49-4D10-4E38-B127-350160CE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44F-2CAE-4B6A-BD02-F890CCEE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90C-0EFF-4566-9313-53DBBB78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391-2088-4CA6-8990-1BC7334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117-457B-4C06-89D5-CF93530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DEC5-DFE7-442D-9C70-938D74FF3C0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icClapton_YouLookWonderfulTonigh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EricClapton_YouLookWonderfulTonigh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68ff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3071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715000" cy="4348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219320"/>
            <a:ext cx="3352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noř se do modra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…</a:t>
            </a:r>
            <a:br>
              <a:rPr sz="24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EricClapton_YouLookWonderfulTonigh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l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-gatto-02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to-cucciolo-04" descr=""/>
          <p:cNvPicPr/>
          <p:nvPr/>
        </p:nvPicPr>
        <p:blipFill>
          <a:blip r:embed="rId1"/>
          <a:stretch/>
        </p:blipFill>
        <p:spPr>
          <a:xfrm>
            <a:off x="0" y="0"/>
            <a:ext cx="977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11658600" cy="82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295280" y="-609480"/>
            <a:ext cx="11125080" cy="80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oto-gatto-10" descr=""/>
          <p:cNvPicPr/>
          <p:nvPr/>
        </p:nvPicPr>
        <p:blipFill>
          <a:blip r:embed="rId1"/>
          <a:stretch/>
        </p:blipFill>
        <p:spPr>
          <a:xfrm>
            <a:off x="0" y="0"/>
            <a:ext cx="103172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rtensia%20azzurra%20s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er%205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2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omic Sans MS"/>
              </a:rPr>
              <a:t>Moc tě zdravím a DÍKY, ŽE JSI</a:t>
            </a:r>
            <a:r>
              <a:rPr b="1" i="1" lang="it-IT" sz="24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68ff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cc"/>
                </a:solidFill>
                <a:latin typeface="Arial"/>
                <a:ea typeface="Arial"/>
              </a:rPr>
              <a:t>"</a:t>
            </a:r>
            <a:r>
              <a:rPr b="1" lang="cs-CZ" sz="1400" spc="-1" strike="noStrike">
                <a:solidFill>
                  <a:srgbClr val="0000cc"/>
                </a:solidFill>
                <a:latin typeface="Arial"/>
                <a:ea typeface="Arial"/>
              </a:rPr>
              <a:t>Jeden rok můžete být nejlepšími přáteli</a:t>
            </a:r>
            <a:r>
              <a:rPr b="0" lang="cs-CZ" sz="14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br>
              <a:rPr sz="1400"/>
            </a:br>
            <a:r>
              <a:rPr b="1" lang="cs-CZ" sz="1300" spc="-1" strike="noStrike">
                <a:solidFill>
                  <a:srgbClr val="0000cc"/>
                </a:solidFill>
                <a:latin typeface="Arial"/>
                <a:ea typeface="Arial"/>
              </a:rPr>
              <a:t>Docela dobrými přáteli další rok,</a:t>
            </a:r>
            <a:br>
              <a:rPr sz="1300"/>
            </a:b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další rok už spolu nemluvíte tak často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, </a:t>
            </a:r>
            <a:br>
              <a:rPr sz="1200"/>
            </a:br>
            <a:r>
              <a:rPr b="1" lang="cs-CZ" sz="1100" spc="-1" strike="noStrike">
                <a:solidFill>
                  <a:srgbClr val="0000cc"/>
                </a:solidFill>
                <a:latin typeface="Arial"/>
                <a:ea typeface="Arial"/>
              </a:rPr>
              <a:t>Příští roky čím dál, tím méně.</a:t>
            </a:r>
            <a:r>
              <a:rPr b="1" lang="cs-CZ" sz="1100" spc="-1" strike="noStrike">
                <a:solidFill>
                  <a:srgbClr val="0000cc"/>
                </a:solidFill>
                <a:latin typeface="Arial"/>
              </a:rPr>
              <a:t>..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Tak bych </a:t>
            </a: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TI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 chtěl říct,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že i kdybych s Tebou už v životě nepromluvil,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jsi pro mě v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</a:rPr>
              <a:t>ý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j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mečná a ovlivnila jsi můj život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Mám Tě rád, respektuji Tě a 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</a:rPr>
              <a:t>vážím si 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Tě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</a:rPr>
              <a:t>Jestli chceš,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pošli takovou zprávu všem svým přátelům,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bez ohledu na to jak často spolu mluvíte,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jak jste si blízko, 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A posláním zpět osobě, která ti tuto zprávu poslala,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ji ujisti, že ti není lhostejná.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Dej svým starým přátelům vědět, že jsi na ně nezapom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ěl,</a:t>
            </a: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A řekni novým přátelům, že na ně nikdy nezapomeneš.</a:t>
            </a:r>
            <a:br>
              <a:rPr sz="1200"/>
            </a:br>
            <a:br>
              <a:rPr sz="1200"/>
            </a:br>
            <a:r>
              <a:rPr b="0" lang="cs-CZ" sz="12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ěkdy se můžeš cítit, že nemáš žádné přátele.</a:t>
            </a:r>
            <a:br>
              <a:rPr sz="1200"/>
            </a:b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V tom případě si vzpomeň</a:t>
            </a:r>
            <a:br>
              <a:rPr sz="1200"/>
            </a:b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na ten</a:t>
            </a:r>
            <a:r>
              <a:rPr b="1" lang="cs-CZ" sz="1200" spc="-1" strike="noStrike">
                <a:solidFill>
                  <a:srgbClr val="0000cc"/>
                </a:solidFill>
                <a:latin typeface="Arial"/>
              </a:rPr>
              <a:t>to</a:t>
            </a: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 dopis</a:t>
            </a:r>
            <a:r>
              <a:rPr b="1" lang="cs-CZ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a pomysli,</a:t>
            </a:r>
            <a:br>
              <a:rPr sz="1200"/>
            </a:b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že </a:t>
            </a:r>
            <a:r>
              <a:rPr b="1" lang="cs-CZ" sz="1200" spc="-1" strike="noStrike">
                <a:solidFill>
                  <a:srgbClr val="0000cc"/>
                </a:solidFill>
                <a:latin typeface="Arial"/>
              </a:rPr>
              <a:t>někde </a:t>
            </a:r>
            <a:r>
              <a:rPr b="1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někomu na Tobě záleží a vždycky bude... </a:t>
            </a:r>
            <a:r>
              <a:rPr b="0" lang="cs-CZ" sz="1200" spc="-1" strike="noStrike">
                <a:solidFill>
                  <a:srgbClr val="0000cc"/>
                </a:solidFill>
                <a:latin typeface="Arial"/>
                <a:ea typeface="Arial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EricClapton_YouLookWonderfulTonigh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ub" descr=""/>
          <p:cNvPicPr/>
          <p:nvPr/>
        </p:nvPicPr>
        <p:blipFill>
          <a:blip r:embed="rId1"/>
          <a:stretch/>
        </p:blipFill>
        <p:spPr>
          <a:xfrm>
            <a:off x="0" y="11160"/>
            <a:ext cx="917748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2003024M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1:31:55Z</dcterms:created>
  <dc:creator/>
  <dc:description/>
  <dc:language>en-US</dc:language>
  <cp:lastModifiedBy>Friml</cp:lastModifiedBy>
  <dcterms:modified xsi:type="dcterms:W3CDTF">2005-12-08T09:29:17Z</dcterms:modified>
  <cp:revision>57</cp:revision>
  <dc:subject/>
  <dc:title>Diapositiva 1</dc:title>
</cp:coreProperties>
</file>